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png" ContentType="image/png"/>
  <Override PartName="/ppt/media/image16.jpeg" ContentType="image/jpeg"/>
  <Override PartName="/ppt/media/image1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804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4400" y="744480"/>
            <a:ext cx="4965840" cy="37260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33080"/>
            <a:ext cx="294480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8040" y="9433080"/>
            <a:ext cx="294480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8892-0E24-4025-83C6-FEDACB978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4400" y="744480"/>
            <a:ext cx="4965840" cy="3726000"/>
          </a:xfrm>
          <a:prstGeom prst="rect">
            <a:avLst/>
          </a:prstGeom>
          <a:ln w="0">
            <a:noFill/>
          </a:ln>
        </p:spPr>
      </p:sp>
      <p:sp>
        <p:nvSpPr>
          <p:cNvPr id="6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Date Placeholder 3"/>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Slide Number Placeholder 4"/>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4E3A-E684-4A40-99DE-24A1723B77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10" name="Header Placeholder 5"/>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142E8-0F6F-44AD-B3F2-C6F51023A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788F5-9BD7-4109-9AFB-6FA6CBC64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E10DF9-3AA1-4BF8-B6B0-5295F11D47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60B26-3C0E-4F50-AD50-858920CEC6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0BB840-64B2-4D26-9DBD-221D2BBAB6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8ADBEF-8817-41A2-9EC1-2A1EE32FA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753DF-F8A6-4C71-B3EF-4BB05CBB8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8A234-A3CB-4BE6-9670-2C3EB52AB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15B590-8AF9-4F6F-82D6-C5B480C6D1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B34671-3CB9-49DB-B665-05333FB02D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A55CE3-C895-4A36-BB16-5A1830D2ED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06BF06-CF50-43C9-B27C-5D14C4A455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FF6FD-F71B-4EC0-8B4B-93557DEBB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539DC7-7A7D-4612-AA63-487065165A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85BEC6-8611-4A7B-B15D-70169ABD92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755A0E-9FD0-4946-BFE0-B23B900F46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05F6CD-8849-4344-A1D4-05B5F7A158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C5921E-6B4F-4303-A16A-35CFB219AA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5BC869-8671-4DF0-9F5E-F4CF324356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68392E-81B5-4A3E-A703-B4651D3AA8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4A5496-FC38-4C66-8295-6AE53B40B2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23895D-C6AD-41EF-97ED-7F7F1ECECF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4AAEB2-9370-4CB4-A602-E51D6434D4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982D4-0BAB-4B4B-B5B0-27612C90F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5214E5-BC83-4C2B-9B80-0BE50FFE62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4D4BD9-989C-463D-B235-5092E8C5B4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79F5BA-89FD-401F-B639-14A1AF340E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0C58A4-FCA2-4ACF-A137-B4FC228F72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B10FA0-A412-409D-B32A-952652C8A3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1C10D8-FC2E-4C85-97F3-12172E3B16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8BF4AE-1D35-44FF-87C8-D8BD6F96F8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760B11-3D76-4FEF-8EDC-F3C76DB80A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3AEDE5-E877-4B84-9087-FCC3F51DFF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21C9FA-9BAF-4AE2-A79F-E988BF3DC1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EE226-84A3-438A-81B5-7D1C9C3E6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C86AB5-A811-4A78-9550-4376E9F43E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CE8715-7923-4C1E-9B7C-5872F4714C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8E4245-D8C0-42CD-8068-4C35D6801A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98C507-1858-463D-8B50-DC02876E40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6A37A8-E9C0-44CB-ABF1-AC355A1530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245AEB-7E0C-4F1A-AF02-670C621BD6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41E9B1-EEE4-4683-BD1B-CC2A118393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EDFA90-793B-4C11-A503-E88953FE1D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633D4E-42E3-4FB8-BD8B-8BBA156A9E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7C49E0-0836-4A0D-BCB5-AC2ED17E22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1BAAD-E814-4543-A44F-C86FDFE40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D914FC-2ADC-4C96-BD44-339619836E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F05952-834D-4B87-A78B-A1DE1162BE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A7BBC2-BEB5-444B-AC31-582F25B53E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099A61-41D9-4B46-B5AE-3AEDDED092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76D93D-ED99-4F0D-A67C-91E75AF807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B227655-7043-4A5F-9177-A5683FD63E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7625F1-6A0A-4988-A738-04B6D03318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8FCA28-2155-4FC3-BABA-3395F8BB6A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C234A2-A8C6-4AF1-A243-26F0419292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34A991-D565-4FC5-A54C-A01CD2D6CF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ACC5E-1352-42E9-A3C2-8B7B7C13A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9F916C-AC2E-48FC-B638-4C749E69AE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D9507C-AE09-4B1E-A7A0-723803CF3A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7E3233-5F6C-494F-AA9D-F56B8DF4B8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771AFD-BA9F-4BC6-A65D-9316279F1C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F0A911-64BC-47B9-BB2F-52CA13262B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3B86C8B-32EE-4965-B2FA-1C107F2942F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843161C-89A3-4BD7-B799-B50F397ED2D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F34EF-1E96-43E4-B70A-EE9B99258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4E41A-2B2E-4F9D-9FF5-BF0970A55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0534D-F560-463B-8135-FEC7A7636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04CFA-5223-441E-820F-6020D8E36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1435F-AF0D-44F3-B1DD-1D02FB345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E3018-CCF7-4395-8506-7329EC638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798C3-CBA1-413A-A3C6-E44C0159D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9B7AC-EDA7-437B-970E-68F56A58C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D12E1-1BF5-4851-AA3B-AE2598FCB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B87F8-E63D-402D-89A1-1366AE1E8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625C08-51E2-4818-9B8F-436062320D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F28C2A-BDBF-4233-9A0C-277CD4605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051F8-A050-4727-BDA2-B810546DE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AB9A0-1746-4F2F-9B63-705A34BAB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D1F22-887D-4381-8376-AF77588D1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C43A-6EBD-4567-A369-488C607BE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9C82D-9622-4A85-B00D-1A78AB533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C2BAF-DA15-4E3A-918A-E809F0D90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DCC7C-00FB-47E0-9888-94B0737B8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91451-72DC-4C8A-AF50-F68A33B15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2C349-EBE3-4600-99AE-7C292652C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145BF3-063E-4007-B570-8DB22351D2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CBAEFD-4BCB-4C84-9C5E-7908FBAD00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19930A-2FF4-497C-89B4-D94976A13A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8C11D5-02F5-46F4-A69E-E3B2A1106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DB200-CFDA-42F9-9D5E-160213DA5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F64DA-CF97-4E13-97D8-10365E884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188C9-2D7B-4279-A539-911B14856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9E5CF-71ED-4336-B6AC-5C818004C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3B58D-ACBF-481B-9149-E3923EFF8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84719-57AA-4A62-9146-8B9A3F74F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A428F-8B17-40D8-969E-06487594F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69A3E-849D-4B7C-B3FD-6D31C220A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EE9BE-D60E-45F9-9A48-244474AC33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D97C4-C01F-4AEE-B69C-ABFEC45519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2DF6CF-E605-4733-BFB9-59D07557A7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023AA-0903-4C62-BDF7-D9F0E99764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D9A85-4563-445A-82C2-ED3F9C79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01E6D0-5229-4FD2-828B-3AF584580B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6E62DD-79E0-4078-B259-18FCD89383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CD4416-63D7-4678-A1FD-55A526747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4776D-FBE9-4E6F-B69D-8CC6C8D64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73FE48-3B4B-44BD-B66D-F99EAC0FC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5F984D-2EAA-417F-90CA-44D9DB712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0091F-B37F-4876-8E21-602005AEA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93F18-F14F-475F-ACA6-14EDEC9A1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D71563-3326-435C-B91E-CA12FA2F20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2A514B-CBF5-4FDF-80CA-4DBB38198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1200C-092D-4D89-881C-4DBB59475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2E226C-8F8D-4745-9A59-998E4C5E45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4C6565-06A2-495F-8853-17877E0694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919730-523B-4C00-9F78-9E8642B2E1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6181D1-B75E-4267-AD9A-3019E14900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0ED9E-B2B1-4F47-A77B-0B75F22BD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F8AF1-0938-4848-8BE0-66B12B442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1D9E0A-61F5-4D66-BE32-E448ECB5CD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3334E-ED4D-4890-B7DB-C7E5AE3BF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C8FC6-89CE-44BB-BCB7-BDCBB26CD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46D1F5-7441-429B-B606-5427DB905E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755CF-7AFD-4216-98DB-DDB2400BD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6828CC-8B43-407A-A23A-C187E93061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5F7CC1-CEF4-47F4-9AC2-792AC055B9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E168C5-8B30-4A87-A3C3-2AD73EDA89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900E4C-4E62-4BEA-A67B-674DE0AC16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9A7C99-878E-4109-AC2C-0D160ED4BC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ACBCD8-9473-499C-8BAC-35E990B25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9281E-300A-40B6-B502-8CE5DC745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0E328F-39B4-4225-9B68-4A7AB74183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3F033-6B6A-44A8-902E-4842AE8B35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F86F5-0B16-4D2C-8559-F2382A34A1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7E41-F1A0-4DFA-83BF-961EC8957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609EC-9344-41E0-BB80-83C647794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515A59-CCD9-4F63-8696-AD60E32DF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4282BF-7D16-4856-8E9F-B3F60112A7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5DAF74-D391-4C46-AFDA-9B669FB515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5FFC33-5483-45BD-9CBA-BC436A6D0B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EF92A9-4212-4BC4-A4AD-B272F654F6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5F5426-6926-4B9A-B0E3-D7D94705CB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3CEE90-C529-480D-895E-65CEC78930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09177-C398-40A2-9EAC-0C06B92E52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0F269F-38F1-433B-9F58-CA675F2C6C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0E25-0243-49C6-B40B-9943C470A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73C51C-027B-43AE-A9B5-DE5E8B2B65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8A270B-26EC-4A85-A67B-38C7F53C23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43C25-5E23-41C7-8B34-689A80330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BB257-4649-4A7D-BD39-73D2B2DFF4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A21CA-2056-421D-BE1C-FE635B013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9155B0-6B11-4015-9F65-2EDC753081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8F5278-4B6A-4E23-85F8-5FDC84D78E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B80CBD-5656-4FFA-8D4F-8261188564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BDD0B-9A18-4C03-9B8C-486826BE36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9386B9-D12A-40AF-A351-D13933F190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DC3B-E779-4143-B667-328F0330058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ADEC-B395-4209-BD3C-BD3EAA3304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8211-8104-417E-8520-D377F2E98FF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0465-DFC2-4FD8-A62E-0FFE3748E9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B9A8-9F70-421E-95D1-68901F6738B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4B57-50D7-43E3-B912-AAA7A06FD4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32E7-15DC-4681-B8E9-B564E4A0EF7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3E68-4276-435D-BE90-FD9B181BA6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5ABB-2B1C-4228-8211-523585D465D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DC2F-3F0F-439A-9282-4167209142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189B-BFD0-4376-943E-506FC1AD8D7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1E9C-A4F0-4E2F-8B5F-C30FE4EC0F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2FAB-B583-47DE-AEBB-AB49599C20B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0B90-57B6-4EA0-803B-3CDDD98D77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A625-25AB-4834-808B-0FE4CDFBAD9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6BEB-2993-449D-9E58-9942AB507C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0F2C-2204-403D-8200-D1EEF5FAB7A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A55F-66BA-42F4-85CF-80E45BC230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024A-FC8A-4AEB-A8E4-6692B5C20E9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BD15-8E93-42F5-9B5F-4E8F4DB17B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3D56-A086-46CB-A34D-74584D171C1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72E5-7828-4D95-8E64-49E1EDDE68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507D-8B93-4036-BE5F-1390063DC79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D8CA-2BA4-497B-8420-038BE42485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7EEC-CA8B-4891-ABC0-F31031B0111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E21A-A9E6-469E-AF45-2A4F4163E1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image" Target="../media/image12.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58000" y="22860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13360" y="184320"/>
            <a:ext cx="1606320" cy="1171440"/>
          </a:xfrm>
          <a:prstGeom prst="rect">
            <a:avLst/>
          </a:prstGeom>
          <a:ln w="0">
            <a:noFill/>
          </a:ln>
        </p:spPr>
      </p:pic>
      <p:pic>
        <p:nvPicPr>
          <p:cNvPr id="546" name="Content Placeholder 11" descr=""/>
          <p:cNvPicPr/>
          <p:nvPr/>
        </p:nvPicPr>
        <p:blipFill>
          <a:blip r:embed="rId2"/>
          <a:stretch/>
        </p:blipFill>
        <p:spPr>
          <a:xfrm>
            <a:off x="5985000" y="184320"/>
            <a:ext cx="1447560" cy="1171440"/>
          </a:xfrm>
          <a:prstGeom prst="rect">
            <a:avLst/>
          </a:prstGeom>
          <a:ln w="0">
            <a:noFill/>
          </a:ln>
        </p:spPr>
      </p:pic>
      <p:pic>
        <p:nvPicPr>
          <p:cNvPr id="547" name="Picture 2" descr=""/>
          <p:cNvPicPr/>
          <p:nvPr/>
        </p:nvPicPr>
        <p:blipFill>
          <a:blip r:embed="rId3"/>
          <a:stretch/>
        </p:blipFill>
        <p:spPr>
          <a:xfrm>
            <a:off x="455760" y="272880"/>
            <a:ext cx="3419280" cy="9018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93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CONFLICT OF INTEREST</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In projects implemented within 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Programme</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51800" y="204840"/>
            <a:ext cx="987480" cy="96984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457200" y="106380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en-US" sz="2800" spc="-1" strike="noStrike" u="sng">
                <a:solidFill>
                  <a:srgbClr val="ff0000"/>
                </a:solidFill>
                <a:uFillTx/>
                <a:latin typeface="Arial Black"/>
              </a:rPr>
              <a:t>What is frau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 </a:t>
            </a:r>
            <a:r>
              <a:rPr b="1" lang="en-US" sz="1800" spc="-1" strike="noStrike">
                <a:solidFill>
                  <a:srgbClr val="002060"/>
                </a:solidFill>
                <a:latin typeface="Arial Black"/>
              </a:rPr>
              <a:t>in respect of expenditure, is defined as any </a:t>
            </a:r>
            <a:r>
              <a:rPr b="1" lang="en-US" sz="1800" spc="-1" strike="noStrike" u="sng">
                <a:solidFill>
                  <a:srgbClr val="002060"/>
                </a:solidFill>
                <a:uFillTx/>
                <a:latin typeface="Arial Black"/>
              </a:rPr>
              <a:t>intentional </a:t>
            </a:r>
            <a:r>
              <a:rPr b="1" lang="en-US" sz="1800" spc="-1" strike="noStrike">
                <a:solidFill>
                  <a:srgbClr val="002060"/>
                </a:solidFill>
                <a:latin typeface="Arial Black"/>
              </a:rPr>
              <a:t>act or omission relating to:</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a:t>
            </a:r>
            <a:r>
              <a:rPr b="1" lang="en-US" sz="1800" spc="-1" strike="noStrike" u="sng">
                <a:solidFill>
                  <a:srgbClr val="002060"/>
                </a:solidFill>
                <a:uFillTx/>
                <a:latin typeface="Arial Black"/>
              </a:rPr>
              <a:t>use or presentation of false, incorrect or incomplete statements or documents,</a:t>
            </a:r>
            <a:r>
              <a:rPr b="1" lang="en-US" sz="1800" spc="-1" strike="noStrike">
                <a:solidFill>
                  <a:srgbClr val="002060"/>
                </a:solidFill>
                <a:latin typeface="Arial Black"/>
              </a:rPr>
              <a:t> which has as its effect the misappropriation or wrongful retention of funds from the general budget of the European Communities or budgets managed by, or on behalf of the European Commun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
          <p:cNvSpPr/>
          <p:nvPr/>
        </p:nvSpPr>
        <p:spPr>
          <a:xfrm>
            <a:off x="2022480" y="4078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53" name="Picture 2" descr=""/>
          <p:cNvPicPr/>
          <p:nvPr/>
        </p:nvPicPr>
        <p:blipFill>
          <a:blip r:embed="rId1"/>
          <a:stretch/>
        </p:blipFill>
        <p:spPr>
          <a:xfrm>
            <a:off x="5715000" y="3886200"/>
            <a:ext cx="3105000" cy="2390760"/>
          </a:xfrm>
          <a:prstGeom prst="rect">
            <a:avLst/>
          </a:prstGeom>
          <a:ln w="0">
            <a:noFill/>
          </a:ln>
        </p:spPr>
      </p:pic>
      <p:sp>
        <p:nvSpPr>
          <p:cNvPr id="554" name="TextBox 2"/>
          <p:cNvSpPr/>
          <p:nvPr/>
        </p:nvSpPr>
        <p:spPr>
          <a:xfrm>
            <a:off x="457200" y="396252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060"/>
                </a:solidFill>
                <a:uFillTx/>
                <a:latin typeface="Arial Black"/>
              </a:rPr>
              <a:t>non-disclosure of information </a:t>
            </a:r>
            <a:r>
              <a:rPr b="1" lang="en-US" sz="1800" spc="-1" strike="noStrike">
                <a:solidFill>
                  <a:srgbClr val="002060"/>
                </a:solidFill>
                <a:latin typeface="Arial Black"/>
              </a:rPr>
              <a:t>in violation of a specific</a:t>
            </a:r>
            <a:r>
              <a:rPr b="1" lang="ro-RO" sz="1800" spc="-1" strike="noStrike">
                <a:solidFill>
                  <a:srgbClr val="002060"/>
                </a:solidFill>
                <a:latin typeface="Arial Black"/>
              </a:rPr>
              <a:t> </a:t>
            </a:r>
            <a:r>
              <a:rPr b="1" lang="en-US" sz="1800" spc="-1" strike="noStrike" u="sng">
                <a:solidFill>
                  <a:srgbClr val="002060"/>
                </a:solidFill>
                <a:uFillTx/>
                <a:latin typeface="Arial Black"/>
              </a:rPr>
              <a:t>obligation</a:t>
            </a:r>
            <a:r>
              <a:rPr b="1" lang="en-US" sz="1800" spc="-1" strike="noStrike">
                <a:solidFill>
                  <a:srgbClr val="002060"/>
                </a:solidFill>
                <a:latin typeface="Arial Black"/>
              </a:rPr>
              <a:t>, with the same effec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misapplication of such funds for </a:t>
            </a:r>
            <a:r>
              <a:rPr b="1" lang="en-US" sz="1800" spc="-1" strike="noStrike" u="sng">
                <a:solidFill>
                  <a:srgbClr val="002060"/>
                </a:solidFill>
                <a:uFillTx/>
                <a:latin typeface="Arial Black"/>
              </a:rPr>
              <a:t>purposes other than those for which they were originally grant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2" descr="D:\VIM\VIM_elements_for_colleagues\7. BRCT Călăraşi.JPG"/>
          <p:cNvPicPr/>
          <p:nvPr/>
        </p:nvPicPr>
        <p:blipFill>
          <a:blip r:embed="rId2"/>
          <a:stretch/>
        </p:blipFill>
        <p:spPr>
          <a:xfrm>
            <a:off x="8305920" y="5978520"/>
            <a:ext cx="635040" cy="730080"/>
          </a:xfrm>
          <a:prstGeom prst="rect">
            <a:avLst/>
          </a:prstGeom>
          <a:ln w="0">
            <a:noFill/>
          </a:ln>
        </p:spPr>
      </p:pic>
      <p:pic>
        <p:nvPicPr>
          <p:cNvPr id="556" name="Picture 4" descr=""/>
          <p:cNvPicPr/>
          <p:nvPr/>
        </p:nvPicPr>
        <p:blipFill>
          <a:blip r:embed="rId3"/>
          <a:stretch/>
        </p:blipFill>
        <p:spPr>
          <a:xfrm>
            <a:off x="457200" y="353880"/>
            <a:ext cx="2408400" cy="633600"/>
          </a:xfrm>
          <a:prstGeom prst="rect">
            <a:avLst/>
          </a:prstGeom>
          <a:ln w="0">
            <a:noFill/>
          </a:ln>
        </p:spPr>
      </p:pic>
      <p:pic>
        <p:nvPicPr>
          <p:cNvPr id="557" name="Picture 5" descr=""/>
          <p:cNvPicPr/>
          <p:nvPr/>
        </p:nvPicPr>
        <p:blipFill>
          <a:blip r:embed="rId4"/>
          <a:stretch/>
        </p:blipFill>
        <p:spPr>
          <a:xfrm>
            <a:off x="387360" y="6119640"/>
            <a:ext cx="1341360" cy="60984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04F5-5747-4C1A-B3F2-4982B2509FD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5A8E-36BE-43C0-9F97-C0DD467919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0" name="Rectangle 3"/>
          <p:cNvSpPr/>
          <p:nvPr/>
        </p:nvSpPr>
        <p:spPr>
          <a:xfrm>
            <a:off x="457200" y="1063800"/>
            <a:ext cx="8458200" cy="28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Black"/>
              </a:rPr>
              <a:t>What is conflict of 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Article 57 of the Financial Reg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Black"/>
              </a:rPr>
              <a:t>A conflict of interests </a:t>
            </a:r>
            <a:r>
              <a:rPr b="1" lang="en-US" sz="1800" spc="-1" strike="noStrike">
                <a:solidFill>
                  <a:srgbClr val="002060"/>
                </a:solidFill>
                <a:latin typeface="Arial Black"/>
              </a:rPr>
              <a:t>exists where the impartial and objective exercise of the functions of a financial actor or other person, involved in budget implementation and management, including acts preparatory thereto, audit or control, </a:t>
            </a:r>
            <a:r>
              <a:rPr b="1" lang="en-US" sz="1800" spc="-1" strike="noStrike" u="sng">
                <a:solidFill>
                  <a:srgbClr val="002060"/>
                </a:solidFill>
                <a:uFillTx/>
                <a:latin typeface="Arial Black"/>
              </a:rPr>
              <a:t>is compromised</a:t>
            </a:r>
            <a:r>
              <a:rPr b="1" lang="en-US" sz="1800" spc="-1" strike="noStrike">
                <a:solidFill>
                  <a:srgbClr val="002060"/>
                </a:solidFill>
                <a:latin typeface="Arial Black"/>
              </a:rPr>
              <a:t> for reasons involving family, emotional life, political or national affinity, economic interest or any other shared interest with a recipient.</a:t>
            </a: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9"/>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62" name="Content Placeholder 6" descr=""/>
          <p:cNvPicPr/>
          <p:nvPr/>
        </p:nvPicPr>
        <p:blipFill>
          <a:blip r:embed="rId1"/>
          <a:stretch/>
        </p:blipFill>
        <p:spPr>
          <a:xfrm>
            <a:off x="5105520" y="3792600"/>
            <a:ext cx="3697200" cy="2244600"/>
          </a:xfrm>
          <a:prstGeom prst="rect">
            <a:avLst/>
          </a:prstGeom>
          <a:ln w="0">
            <a:noFill/>
          </a:ln>
        </p:spPr>
      </p:pic>
      <p:sp>
        <p:nvSpPr>
          <p:cNvPr id="563" name="TextBox 4"/>
          <p:cNvSpPr/>
          <p:nvPr/>
        </p:nvSpPr>
        <p:spPr>
          <a:xfrm>
            <a:off x="654120" y="3956040"/>
            <a:ext cx="4451400" cy="191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Family - XX degree family relationship, marriage or registered civil partnership.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Economic interest - Contractual relationship or paid or unpaid consultancy currently applicable.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Other shared interest with a recipient  - including voluntary work, member of a board or directive council.</a:t>
            </a:r>
            <a:endParaRPr b="0" lang="en-US" sz="1500" spc="-1" strike="noStrike">
              <a:solidFill>
                <a:srgbClr val="000000"/>
              </a:solidFill>
              <a:latin typeface="Arial"/>
            </a:endParaRPr>
          </a:p>
        </p:txBody>
      </p:sp>
      <p:pic>
        <p:nvPicPr>
          <p:cNvPr id="564" name="Picture 2" descr="D:\VIM\VIM_elements_for_colleagues\7. BRCT Călăraşi.JPG"/>
          <p:cNvPicPr/>
          <p:nvPr/>
        </p:nvPicPr>
        <p:blipFill>
          <a:blip r:embed="rId2"/>
          <a:stretch/>
        </p:blipFill>
        <p:spPr>
          <a:xfrm>
            <a:off x="8278920" y="5967360"/>
            <a:ext cx="636480" cy="731880"/>
          </a:xfrm>
          <a:prstGeom prst="rect">
            <a:avLst/>
          </a:prstGeom>
          <a:ln w="0">
            <a:noFill/>
          </a:ln>
        </p:spPr>
      </p:pic>
      <p:pic>
        <p:nvPicPr>
          <p:cNvPr id="565" name="Picture 2" descr=""/>
          <p:cNvPicPr/>
          <p:nvPr/>
        </p:nvPicPr>
        <p:blipFill>
          <a:blip r:embed="rId3"/>
          <a:stretch/>
        </p:blipFill>
        <p:spPr>
          <a:xfrm>
            <a:off x="336600" y="331920"/>
            <a:ext cx="2408040" cy="633240"/>
          </a:xfrm>
          <a:prstGeom prst="rect">
            <a:avLst/>
          </a:prstGeom>
          <a:ln w="0">
            <a:noFill/>
          </a:ln>
        </p:spPr>
      </p:pic>
      <p:pic>
        <p:nvPicPr>
          <p:cNvPr id="566" name="Picture 3" descr=""/>
          <p:cNvPicPr/>
          <p:nvPr/>
        </p:nvPicPr>
        <p:blipFill>
          <a:blip r:embed="rId4"/>
          <a:stretch/>
        </p:blipFill>
        <p:spPr>
          <a:xfrm>
            <a:off x="299880" y="6149880"/>
            <a:ext cx="134172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8" name="PlaceHolder 2"/>
          <p:cNvSpPr>
            <a:spLocks noGrp="1"/>
          </p:cNvSpPr>
          <p:nvPr>
            <p:ph type="subTitle"/>
          </p:nvPr>
        </p:nvSpPr>
        <p:spPr>
          <a:xfrm>
            <a:off x="380520" y="914040"/>
            <a:ext cx="8458200" cy="39625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Reference Documents for preventing fraud</a:t>
            </a:r>
            <a:endParaRPr b="0" lang="en-US" sz="2000" spc="-1" strike="noStrike">
              <a:solidFill>
                <a:srgbClr val="000000"/>
              </a:solidFill>
              <a:latin typeface="Calibri"/>
            </a:endParaRPr>
          </a:p>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 </a:t>
            </a:r>
            <a:r>
              <a:rPr b="1" lang="en-US" sz="2000" spc="-1" strike="noStrike" u="sng">
                <a:solidFill>
                  <a:srgbClr val="ff0000"/>
                </a:solidFill>
                <a:uFillTx/>
                <a:latin typeface="Arial Black"/>
                <a:ea typeface="Arial"/>
              </a:rPr>
              <a:t>and Conflict of Interest</a:t>
            </a:r>
            <a:endParaRPr b="0" lang="en-US" sz="20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Chapter 17.B. “Anti-Fraud Measures” of the Project Implementation Manual;</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applicants and beneficiaries of Interreg V-A Ro-Bg Programme, available at the Programme website (Section Programme Publications)</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EC Guide “Identifying conflicts of interests in public procurement procedures for structural actions - A practical guide for managers“, available at </a:t>
            </a:r>
            <a:r>
              <a:rPr b="0" lang="en-US" sz="1800" spc="-1" strike="noStrike" u="sng">
                <a:solidFill>
                  <a:srgbClr val="0000ff"/>
                </a:solidFill>
                <a:uFillTx/>
                <a:latin typeface="Arial Black"/>
                <a:ea typeface="Arial"/>
                <a:hlinkClick r:id="rId1"/>
              </a:rPr>
              <a:t>https://</a:t>
            </a:r>
            <a:r>
              <a:rPr b="0" lang="en-US" sz="1800" spc="-1" strike="noStrike" u="sng">
                <a:solidFill>
                  <a:srgbClr val="0000ff"/>
                </a:solidFill>
                <a:uFillTx/>
                <a:latin typeface="Arial Black"/>
                <a:ea typeface="Arial"/>
                <a:hlinkClick r:id="rId2"/>
              </a:rPr>
              <a:t>ec.europa.eu/sfc/en/2014/anti-fraud</a:t>
            </a:r>
            <a:r>
              <a:rPr b="1" lang="en-US" sz="1800" spc="-1" strike="noStrike">
                <a:solidFill>
                  <a:srgbClr val="002060"/>
                </a:solidFill>
                <a:latin typeface="Arial Black"/>
                <a:ea typeface="Arial"/>
              </a:rPr>
              <a:t>;</a:t>
            </a:r>
            <a:endParaRPr b="0" lang="en-US" sz="1800" spc="-1" strike="noStrike">
              <a:solidFill>
                <a:srgbClr val="000000"/>
              </a:solidFill>
              <a:latin typeface="Calibri"/>
            </a:endParaRPr>
          </a:p>
          <a:p>
            <a:pPr lvl="1"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70" name="TextBox 1"/>
          <p:cNvSpPr/>
          <p:nvPr/>
        </p:nvSpPr>
        <p:spPr>
          <a:xfrm>
            <a:off x="380880" y="4419720"/>
            <a:ext cx="6400800" cy="14655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the beneficiaries of projects financed from ESI funds to prevent the occurrence of irregularities/fraud, available at https://www.integritate.eu/A.N.I.-interactiv/Ghiduri.aspx </a:t>
            </a:r>
            <a:endParaRPr b="0" lang="en-US" sz="1800" spc="-1" strike="noStrike">
              <a:solidFill>
                <a:srgbClr val="000000"/>
              </a:solidFill>
              <a:latin typeface="Arial"/>
            </a:endParaRPr>
          </a:p>
        </p:txBody>
      </p:sp>
      <p:pic>
        <p:nvPicPr>
          <p:cNvPr id="571" name="Picture 6" descr="C:\Users\gergana.mihaylova\Desktop\text-guide.png"/>
          <p:cNvPicPr/>
          <p:nvPr/>
        </p:nvPicPr>
        <p:blipFill>
          <a:blip r:embed="rId3"/>
          <a:stretch/>
        </p:blipFill>
        <p:spPr>
          <a:xfrm>
            <a:off x="6556320" y="3962520"/>
            <a:ext cx="2587680" cy="1725480"/>
          </a:xfrm>
          <a:prstGeom prst="rect">
            <a:avLst/>
          </a:prstGeom>
          <a:ln w="0">
            <a:noFill/>
          </a:ln>
        </p:spPr>
      </p:pic>
      <p:pic>
        <p:nvPicPr>
          <p:cNvPr id="572" name="Picture 2" descr="D:\VIM\VIM_elements_for_colleagues\7. BRCT Călăraşi.JPG"/>
          <p:cNvPicPr/>
          <p:nvPr/>
        </p:nvPicPr>
        <p:blipFill>
          <a:blip r:embed="rId4"/>
          <a:stretch/>
        </p:blipFill>
        <p:spPr>
          <a:xfrm>
            <a:off x="8224920" y="5884920"/>
            <a:ext cx="636480" cy="731880"/>
          </a:xfrm>
          <a:prstGeom prst="rect">
            <a:avLst/>
          </a:prstGeom>
          <a:ln w="0">
            <a:noFill/>
          </a:ln>
        </p:spPr>
      </p:pic>
      <p:pic>
        <p:nvPicPr>
          <p:cNvPr id="573" name="Picture 1" descr=""/>
          <p:cNvPicPr/>
          <p:nvPr/>
        </p:nvPicPr>
        <p:blipFill>
          <a:blip r:embed="rId5"/>
          <a:stretch/>
        </p:blipFill>
        <p:spPr>
          <a:xfrm>
            <a:off x="380880" y="309600"/>
            <a:ext cx="2408400" cy="633240"/>
          </a:xfrm>
          <a:prstGeom prst="rect">
            <a:avLst/>
          </a:prstGeom>
          <a:ln w="0">
            <a:noFill/>
          </a:ln>
        </p:spPr>
      </p:pic>
      <p:pic>
        <p:nvPicPr>
          <p:cNvPr id="574" name="Picture 3" descr=""/>
          <p:cNvPicPr/>
          <p:nvPr/>
        </p:nvPicPr>
        <p:blipFill>
          <a:blip r:embed="rId6"/>
          <a:stretch/>
        </p:blipFill>
        <p:spPr>
          <a:xfrm>
            <a:off x="380880" y="6049800"/>
            <a:ext cx="134172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hapter 17.B. of the Project Implementation Manual</a:t>
            </a:r>
            <a:br>
              <a:rPr sz="2000"/>
            </a:br>
            <a:br>
              <a:rPr sz="2000"/>
            </a:br>
            <a:endParaRPr b="0" lang="en-US" sz="2000" spc="-1" strike="noStrike">
              <a:solidFill>
                <a:srgbClr val="000000"/>
              </a:solidFill>
              <a:latin typeface="Calibri"/>
            </a:endParaRPr>
          </a:p>
        </p:txBody>
      </p:sp>
      <p:sp>
        <p:nvSpPr>
          <p:cNvPr id="576" name="PlaceHolder 2"/>
          <p:cNvSpPr>
            <a:spLocks noGrp="1"/>
          </p:cNvSpPr>
          <p:nvPr>
            <p:ph type="subTitle"/>
          </p:nvPr>
        </p:nvSpPr>
        <p:spPr>
          <a:xfrm>
            <a:off x="342720" y="1523880"/>
            <a:ext cx="8458200" cy="1447920"/>
          </a:xfrm>
          <a:prstGeom prst="rect">
            <a:avLst/>
          </a:prstGeom>
          <a:noFill/>
          <a:ln w="0">
            <a:noFill/>
          </a:ln>
        </p:spPr>
        <p:txBody>
          <a:bodyPr anchor="t">
            <a:no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The beneficiary should have an </a:t>
            </a:r>
            <a:r>
              <a:rPr b="1" lang="en-US" sz="1800" spc="-1" strike="noStrike" u="sng">
                <a:solidFill>
                  <a:srgbClr val="ff0000"/>
                </a:solidFill>
                <a:uFillTx/>
                <a:latin typeface="Arial Black"/>
                <a:ea typeface="Arial"/>
              </a:rPr>
              <a:t>internal code of conduct and a conflict of interest policy</a:t>
            </a:r>
            <a:r>
              <a:rPr b="1" lang="en-US" sz="1800" spc="-1" strike="noStrike">
                <a:solidFill>
                  <a:srgbClr val="002060"/>
                </a:solidFill>
                <a:latin typeface="Arial Black"/>
                <a:ea typeface="Arial"/>
              </a:rPr>
              <a:t> relating to projects funded from European funds – a unambiguous code of ethics that all beneficiary staff must routinely declare adherence to, covering aspects related to:</a:t>
            </a:r>
            <a:endParaRPr b="0" lang="en-US" sz="18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Arial Black"/>
                <a:ea typeface="Arial"/>
              </a:rPr>
              <a:t>See EC Guide “Identifying conflicts of interests in public procurement procedures for structural actions - A practical guide for managers “</a:t>
            </a:r>
            <a:endParaRPr b="0" lang="en-US" sz="1600" spc="-1" strike="noStrike">
              <a:solidFill>
                <a:srgbClr val="000000"/>
              </a:solidFill>
              <a:latin typeface="Calibri"/>
            </a:endParaRPr>
          </a:p>
        </p:txBody>
      </p:sp>
      <p:sp>
        <p:nvSpPr>
          <p:cNvPr id="577"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78" name="Picture 2" descr="D:\VIM\VIM_elements_for_colleagues\7. BRCT Călăraşi.JPG"/>
          <p:cNvPicPr/>
          <p:nvPr/>
        </p:nvPicPr>
        <p:blipFill>
          <a:blip r:embed="rId1"/>
          <a:stretch/>
        </p:blipFill>
        <p:spPr>
          <a:xfrm>
            <a:off x="8305920" y="6005520"/>
            <a:ext cx="636480" cy="731880"/>
          </a:xfrm>
          <a:prstGeom prst="rect">
            <a:avLst/>
          </a:prstGeom>
          <a:ln w="0">
            <a:noFill/>
          </a:ln>
        </p:spPr>
      </p:pic>
      <p:pic>
        <p:nvPicPr>
          <p:cNvPr id="579" name="Picture 5" descr="C:\Users\gergana.mihaylova\Desktop\code-of-conduct-img.jpg"/>
          <p:cNvPicPr/>
          <p:nvPr/>
        </p:nvPicPr>
        <p:blipFill>
          <a:blip r:embed="rId2"/>
          <a:stretch/>
        </p:blipFill>
        <p:spPr>
          <a:xfrm>
            <a:off x="6716880" y="2819520"/>
            <a:ext cx="2124000" cy="2460600"/>
          </a:xfrm>
          <a:prstGeom prst="rect">
            <a:avLst/>
          </a:prstGeom>
          <a:ln w="0">
            <a:noFill/>
          </a:ln>
        </p:spPr>
      </p:pic>
      <p:sp>
        <p:nvSpPr>
          <p:cNvPr id="580" name="TextBox 1"/>
          <p:cNvSpPr/>
          <p:nvPr/>
        </p:nvSpPr>
        <p:spPr>
          <a:xfrm>
            <a:off x="228600" y="2971800"/>
            <a:ext cx="6248520" cy="22842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licts of interest – explanation and requirements and procedures for disclosure, as well as sanctions in case of non-disclosure or false declaration;</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Gifts and hospitality policy – explanation and responsibilities of staff for complianc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idential information – explanation and responsibilities of staff;</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Requirements for reporting of suspected fraud. </a:t>
            </a:r>
            <a:endParaRPr b="0" lang="en-US" sz="1600" spc="-1" strike="noStrike">
              <a:solidFill>
                <a:srgbClr val="000000"/>
              </a:solidFill>
              <a:latin typeface="Arial"/>
            </a:endParaRPr>
          </a:p>
        </p:txBody>
      </p:sp>
      <p:pic>
        <p:nvPicPr>
          <p:cNvPr id="581" name="Picture 1" descr=""/>
          <p:cNvPicPr/>
          <p:nvPr/>
        </p:nvPicPr>
        <p:blipFill>
          <a:blip r:embed="rId3"/>
          <a:stretch/>
        </p:blipFill>
        <p:spPr>
          <a:xfrm>
            <a:off x="457200" y="331920"/>
            <a:ext cx="2408400" cy="633240"/>
          </a:xfrm>
          <a:prstGeom prst="rect">
            <a:avLst/>
          </a:prstGeom>
          <a:ln w="0">
            <a:noFill/>
          </a:ln>
        </p:spPr>
      </p:pic>
      <p:pic>
        <p:nvPicPr>
          <p:cNvPr id="582" name="Picture 3" descr=""/>
          <p:cNvPicPr/>
          <p:nvPr/>
        </p:nvPicPr>
        <p:blipFill>
          <a:blip r:embed="rId4"/>
          <a:stretch/>
        </p:blipFill>
        <p:spPr>
          <a:xfrm>
            <a:off x="425520" y="612792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42720" y="839880"/>
            <a:ext cx="8458200" cy="21319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Procurement field – most susceptible to fraud</a:t>
            </a: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entire personnel of the beneficiary, involved in the procurement process (preparation, elaboration, implementation or closure), including </a:t>
            </a:r>
            <a:r>
              <a:rPr b="1" lang="en-US" sz="1700" spc="-1" strike="noStrike" u="sng">
                <a:solidFill>
                  <a:srgbClr val="002060"/>
                </a:solidFill>
                <a:uFillTx/>
                <a:latin typeface="Arial Black"/>
                <a:ea typeface="Arial"/>
              </a:rPr>
              <a:t>direct procurements </a:t>
            </a:r>
            <a:r>
              <a:rPr b="1" lang="en-US" sz="1700" spc="-1" strike="noStrike">
                <a:solidFill>
                  <a:srgbClr val="002060"/>
                </a:solidFill>
                <a:latin typeface="Arial Black"/>
                <a:ea typeface="Arial"/>
              </a:rPr>
              <a:t>shall declare the absence of Conflict of Interest.   The obligation should apply at least to the following people:</a:t>
            </a:r>
            <a:endParaRPr b="0" lang="en-US" sz="1700" spc="-1" strike="noStrike">
              <a:solidFill>
                <a:srgbClr val="000000"/>
              </a:solidFill>
              <a:latin typeface="Calibri"/>
            </a:endParaRPr>
          </a:p>
        </p:txBody>
      </p:sp>
      <p:sp>
        <p:nvSpPr>
          <p:cNvPr id="584"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85" name="Picture 2" descr=""/>
          <p:cNvPicPr/>
          <p:nvPr/>
        </p:nvPicPr>
        <p:blipFill>
          <a:blip r:embed="rId1"/>
          <a:stretch/>
        </p:blipFill>
        <p:spPr>
          <a:xfrm>
            <a:off x="6445080" y="2844720"/>
            <a:ext cx="2286000" cy="3062520"/>
          </a:xfrm>
          <a:prstGeom prst="rect">
            <a:avLst/>
          </a:prstGeom>
          <a:ln w="0">
            <a:noFill/>
          </a:ln>
        </p:spPr>
      </p:pic>
      <p:sp>
        <p:nvSpPr>
          <p:cNvPr id="586" name="TextBox 6"/>
          <p:cNvSpPr/>
          <p:nvPr/>
        </p:nvSpPr>
        <p:spPr>
          <a:xfrm>
            <a:off x="217440" y="2938320"/>
            <a:ext cx="6227640" cy="3321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the head of the Beneficiary and anyone to whom he/she delegates his/her dutie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management board,</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staff contributing to preparing/drafting the tender document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evaluation committe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experts performing any task connected with preparing the tender documents and/or evaluating the bids, including external experts.</a:t>
            </a:r>
            <a:endParaRPr b="0" lang="en-US" sz="1600" spc="-1" strike="noStrike">
              <a:solidFill>
                <a:srgbClr val="000000"/>
              </a:solidFill>
              <a:latin typeface="Arial"/>
            </a:endParaRPr>
          </a:p>
          <a:p>
            <a:pPr lvl="1" marL="800280" indent="-34308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Declarations for absence of conflict of interest, according to national legislation, as well as Annex 17 in PIM</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587" name="Picture 2" descr="D:\VIM\VIM_elements_for_colleagues\7. BRCT Călăraşi.JPG"/>
          <p:cNvPicPr/>
          <p:nvPr/>
        </p:nvPicPr>
        <p:blipFill>
          <a:blip r:embed="rId2"/>
          <a:stretch/>
        </p:blipFill>
        <p:spPr>
          <a:xfrm>
            <a:off x="8077320" y="5943600"/>
            <a:ext cx="653760" cy="754200"/>
          </a:xfrm>
          <a:prstGeom prst="rect">
            <a:avLst/>
          </a:prstGeom>
          <a:ln w="0">
            <a:noFill/>
          </a:ln>
        </p:spPr>
      </p:pic>
      <p:pic>
        <p:nvPicPr>
          <p:cNvPr id="588" name="Picture 1" descr=""/>
          <p:cNvPicPr/>
          <p:nvPr/>
        </p:nvPicPr>
        <p:blipFill>
          <a:blip r:embed="rId3"/>
          <a:stretch/>
        </p:blipFill>
        <p:spPr>
          <a:xfrm>
            <a:off x="369720" y="304920"/>
            <a:ext cx="2408400" cy="633240"/>
          </a:xfrm>
          <a:prstGeom prst="rect">
            <a:avLst/>
          </a:prstGeom>
          <a:ln w="0">
            <a:noFill/>
          </a:ln>
        </p:spPr>
      </p:pic>
      <p:pic>
        <p:nvPicPr>
          <p:cNvPr id="589" name="Picture 3" descr=""/>
          <p:cNvPicPr/>
          <p:nvPr/>
        </p:nvPicPr>
        <p:blipFill>
          <a:blip r:embed="rId4"/>
          <a:stretch/>
        </p:blipFill>
        <p:spPr>
          <a:xfrm>
            <a:off x="301680" y="6124680"/>
            <a:ext cx="1222200" cy="55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440" y="1039680"/>
            <a:ext cx="8077320" cy="27324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All the declarations shall be registered (Registry of Declarations should be kept) for each procurement and made available to the Programme structures;</a:t>
            </a:r>
            <a:endParaRPr b="0" lang="en-US" sz="17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declarations for absence of conflict of interest should be checked against employment history, family status, etc.;</a:t>
            </a:r>
            <a:endParaRPr b="0" lang="en-US" sz="1700" spc="-1" strike="noStrike">
              <a:solidFill>
                <a:srgbClr val="000000"/>
              </a:solidFill>
              <a:latin typeface="Calibri"/>
            </a:endParaRPr>
          </a:p>
          <a:p>
            <a:pPr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Romanian beneficiaries that are allowed to use the PREVENT system in Romania have the obligation to use it in the procurement process;</a:t>
            </a:r>
            <a:endParaRPr b="0" lang="en-US" sz="1700" spc="-1" strike="noStrike">
              <a:solidFill>
                <a:srgbClr val="000000"/>
              </a:solidFill>
              <a:latin typeface="Calibri"/>
            </a:endParaRPr>
          </a:p>
          <a:p>
            <a:pPr algn="just">
              <a:lnSpc>
                <a:spcPct val="10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92" name="Picture 2" descr="D:\VIM\VIM_elements_for_colleagues\7. BRCT Călăraşi.JPG"/>
          <p:cNvPicPr/>
          <p:nvPr/>
        </p:nvPicPr>
        <p:blipFill>
          <a:blip r:embed="rId1"/>
          <a:stretch/>
        </p:blipFill>
        <p:spPr>
          <a:xfrm>
            <a:off x="8153280" y="6021360"/>
            <a:ext cx="609840" cy="701640"/>
          </a:xfrm>
          <a:prstGeom prst="rect">
            <a:avLst/>
          </a:prstGeom>
          <a:ln w="0">
            <a:noFill/>
          </a:ln>
        </p:spPr>
      </p:pic>
      <p:sp>
        <p:nvSpPr>
          <p:cNvPr id="593" name="TextBox 4"/>
          <p:cNvSpPr/>
          <p:nvPr/>
        </p:nvSpPr>
        <p:spPr>
          <a:xfrm>
            <a:off x="685800" y="3673440"/>
            <a:ext cx="5334120" cy="250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four eyes principle for all documents drafted according to national legislation/ internal programme requirements;</a:t>
            </a:r>
            <a:endParaRPr b="0" lang="en-US" sz="1700" spc="-1" strike="noStrike">
              <a:solidFill>
                <a:srgbClr val="000000"/>
              </a:solidFill>
              <a:latin typeface="Arial"/>
            </a:endParaRPr>
          </a:p>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principle of rotation and randomness when setting the evaluation/selection board (if the personnel is sufficient to ensure such rotation and randomness). </a:t>
            </a:r>
            <a:endParaRPr b="0" lang="en-US" sz="1700" spc="-1" strike="noStrike">
              <a:solidFill>
                <a:srgbClr val="000000"/>
              </a:solidFill>
              <a:latin typeface="Arial"/>
            </a:endParaRPr>
          </a:p>
        </p:txBody>
      </p:sp>
      <p:pic>
        <p:nvPicPr>
          <p:cNvPr id="594" name="Picture 4" descr="C:\Users\gergana.mihaylova\Desktop\images.jpg"/>
          <p:cNvPicPr/>
          <p:nvPr/>
        </p:nvPicPr>
        <p:blipFill>
          <a:blip r:embed="rId2"/>
          <a:stretch/>
        </p:blipFill>
        <p:spPr>
          <a:xfrm>
            <a:off x="6019920" y="3978360"/>
            <a:ext cx="2819160" cy="1807920"/>
          </a:xfrm>
          <a:prstGeom prst="rect">
            <a:avLst/>
          </a:prstGeom>
          <a:ln w="0">
            <a:noFill/>
          </a:ln>
        </p:spPr>
      </p:pic>
      <p:pic>
        <p:nvPicPr>
          <p:cNvPr id="595" name="Picture 1" descr=""/>
          <p:cNvPicPr/>
          <p:nvPr/>
        </p:nvPicPr>
        <p:blipFill>
          <a:blip r:embed="rId3"/>
          <a:stretch/>
        </p:blipFill>
        <p:spPr>
          <a:xfrm>
            <a:off x="457200" y="341280"/>
            <a:ext cx="2408400" cy="633600"/>
          </a:xfrm>
          <a:prstGeom prst="rect">
            <a:avLst/>
          </a:prstGeom>
          <a:ln w="0">
            <a:noFill/>
          </a:ln>
        </p:spPr>
      </p:pic>
      <p:pic>
        <p:nvPicPr>
          <p:cNvPr id="596" name="Picture 3" descr=""/>
          <p:cNvPicPr/>
          <p:nvPr/>
        </p:nvPicPr>
        <p:blipFill>
          <a:blip r:embed="rId4"/>
          <a:stretch/>
        </p:blipFill>
        <p:spPr>
          <a:xfrm>
            <a:off x="447840" y="613260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0520" y="1066680"/>
            <a:ext cx="8534520" cy="49831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6092"/>
                </a:solidFill>
                <a:latin typeface="Trebuchet MS"/>
                <a:ea typeface="Times New Roman"/>
              </a:rPr>
              <a:t>          </a:t>
            </a:r>
            <a:r>
              <a:rPr b="1" lang="en-GB" sz="1800" spc="-1" strike="noStrike">
                <a:solidFill>
                  <a:srgbClr val="376092"/>
                </a:solidFill>
                <a:latin typeface="Arial Black"/>
                <a:ea typeface="Times New Roman"/>
              </a:rPr>
              <a:t>The clear message from the Programme management structures i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Black"/>
                <a:ea typeface="Times New Roman"/>
              </a:rPr>
              <a:t>Zero Tolerance to Fraud!</a:t>
            </a:r>
            <a:endParaRPr b="0" lang="en-US" sz="2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If the beneficiary has any knowledge of a fraud suspicion/irregularity related to the Programme, it is his responsibility to announce the management structures, by using the whistleblower: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Roman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drap.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Bulgar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MKrasteva@mrrb.government.bg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SDilkovski@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IDen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NA-RO-BG@mrrb.government.bg  </a:t>
            </a:r>
            <a:endParaRPr b="0" lang="en-US" sz="1800" spc="-1" strike="noStrike">
              <a:solidFill>
                <a:srgbClr val="000000"/>
              </a:solidFill>
              <a:latin typeface="Calibri"/>
            </a:endParaRPr>
          </a:p>
        </p:txBody>
      </p:sp>
      <p:sp>
        <p:nvSpPr>
          <p:cNvPr id="598"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DA2D-F021-4AC5-A758-4DAA7A989A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600" name="Picture 4" descr="C:\Users\gergana.mihaylova\Desktop\images.jpg"/>
          <p:cNvPicPr/>
          <p:nvPr/>
        </p:nvPicPr>
        <p:blipFill>
          <a:blip r:embed="rId1"/>
          <a:stretch/>
        </p:blipFill>
        <p:spPr>
          <a:xfrm>
            <a:off x="5002200" y="3200400"/>
            <a:ext cx="3075120" cy="2895480"/>
          </a:xfrm>
          <a:prstGeom prst="rect">
            <a:avLst/>
          </a:prstGeom>
          <a:ln w="0">
            <a:noFill/>
          </a:ln>
        </p:spPr>
      </p:pic>
      <p:pic>
        <p:nvPicPr>
          <p:cNvPr id="601" name="Picture 2" descr="D:\VIM\VIM_elements_for_colleagues\7. BRCT Călăraşi.JPG"/>
          <p:cNvPicPr/>
          <p:nvPr/>
        </p:nvPicPr>
        <p:blipFill>
          <a:blip r:embed="rId2"/>
          <a:stretch/>
        </p:blipFill>
        <p:spPr>
          <a:xfrm>
            <a:off x="8344080" y="5894280"/>
            <a:ext cx="636480" cy="731880"/>
          </a:xfrm>
          <a:prstGeom prst="rect">
            <a:avLst/>
          </a:prstGeom>
          <a:ln w="0">
            <a:noFill/>
          </a:ln>
        </p:spPr>
      </p:pic>
      <p:pic>
        <p:nvPicPr>
          <p:cNvPr id="602" name="Picture 2" descr=""/>
          <p:cNvPicPr/>
          <p:nvPr/>
        </p:nvPicPr>
        <p:blipFill>
          <a:blip r:embed="rId3"/>
          <a:stretch/>
        </p:blipFill>
        <p:spPr>
          <a:xfrm>
            <a:off x="403200" y="314280"/>
            <a:ext cx="2408400" cy="633600"/>
          </a:xfrm>
          <a:prstGeom prst="rect">
            <a:avLst/>
          </a:prstGeom>
          <a:ln w="0">
            <a:noFill/>
          </a:ln>
        </p:spPr>
      </p:pic>
      <p:pic>
        <p:nvPicPr>
          <p:cNvPr id="603" name="Picture 3" descr=""/>
          <p:cNvPicPr/>
          <p:nvPr/>
        </p:nvPicPr>
        <p:blipFill>
          <a:blip r:embed="rId4"/>
          <a:stretch/>
        </p:blipFill>
        <p:spPr>
          <a:xfrm>
            <a:off x="403200" y="6016680"/>
            <a:ext cx="1341360" cy="609480"/>
          </a:xfrm>
          <a:prstGeom prst="rect">
            <a:avLst/>
          </a:prstGeom>
          <a:ln w="0">
            <a:noFill/>
          </a:ln>
        </p:spPr>
      </p:pic>
      <p:sp>
        <p:nvSpPr>
          <p:cNvPr id="604" name="Title 1"/>
          <p:cNvSpPr/>
          <p:nvPr/>
        </p:nvSpPr>
        <p:spPr>
          <a:xfrm>
            <a:off x="1701720" y="6014880"/>
            <a:ext cx="6624720" cy="3556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Trebuchet MS"/>
                <a:ea typeface="Arial"/>
              </a:rPr>
              <a:t>The content of this material does not necessarily represent the official position of the European Union</a:t>
            </a:r>
            <a:endParaRPr b="0" lang="en-US" sz="1400" spc="-1" strike="noStrike">
              <a:solidFill>
                <a:srgbClr val="000000"/>
              </a:solidFill>
              <a:latin typeface="Arial"/>
            </a:endParaRPr>
          </a:p>
        </p:txBody>
      </p:sp>
      <p:sp>
        <p:nvSpPr>
          <p:cNvPr id="605"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Evdokia Nedelcheva</cp:lastModifiedBy>
  <cp:lastPrinted>2011-04-11T13:03:17Z</cp:lastPrinted>
  <dcterms:modified xsi:type="dcterms:W3CDTF">2018-10-25T12:58:41Z</dcterms:modified>
  <cp:revision>521</cp:revision>
  <dc:subject/>
  <dc:title>Slide 1</dc:title>
</cp:coreProperties>
</file>